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08D-4C90-4762-A334-5613BD06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5BA-60A3-41BB-9A90-5684927A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7E7-E9D0-4C03-B7A4-30B745C9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D8B-29B5-4688-BD57-FB79854D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101-C69C-472C-B452-2DE2FAC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BC7-A8A6-4413-AC88-A348AEFC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59C-2598-4C6C-AE85-E5788577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FFC-17B7-45FD-92B8-D1CC720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959-BF0E-455C-88E0-E6D27DA3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F13-2D1E-4BBE-85A2-DCE93434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DA5-72D5-4DCE-B883-F2205CBE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3D2-94DB-4880-8199-BAEE3FBD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8AF8-5AC9-44A8-90D5-022986C79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e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31:13Z</dcterms:modified>
  <cp:revision>100</cp:revision>
  <dc:subject/>
  <dc:title>Présentation PowerPoint</dc:title>
</cp:coreProperties>
</file>